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B32-2010-405F-B5F7-DC9DE4EB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AB2-068B-45C5-B4E6-1759A63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F85-A7D5-4517-8D21-4C05CA73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2CB-D723-432C-8E01-E4623A53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466D-E72A-4ABD-86A7-6AAABA43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2BDC-765B-43D2-AF06-CF60E854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AD2D-19F4-48E5-9041-3F21E4E5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6F6B-0937-44F2-A427-34F54FB0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346C-CC94-4E74-9F45-B5A228F8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F1C4-8907-41F6-BA48-ADF4AE02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E173-3B83-4D22-BEA1-51B10987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510-0D20-4389-8763-21691DA8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9C43-DC01-4FBA-9027-80ADD776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324E-EFC2-4F2E-AE9B-138C1D4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91A6-6CD0-4297-818D-E7B11E44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6E68-6122-4496-B242-027B4A35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A376-8B6B-4994-914A-9A170F6B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209-63DD-427E-A79E-672C5AAE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3C3-51B6-44DA-9610-FE3706E6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B53-D51C-49DD-B358-463EB036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DB1-81E4-4DDE-BB48-269C9D21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36B-E897-41DE-8001-27C467CB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135-4408-4473-AAE4-21A5AA67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81C-BD60-4084-8009-402C436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FF73-A543-42FF-88E0-AB1FA193E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6DA6-36E3-44B4-8007-A5589F0EB5B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Session 2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Understanding Inclus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Picture3"/>
          <p:cNvPicPr/>
          <p:nvPr/>
        </p:nvPicPr>
        <p:blipFill>
          <a:blip r:embed="rId1"/>
          <a:stretch/>
        </p:blipFill>
        <p:spPr>
          <a:xfrm>
            <a:off x="6095880" y="5397480"/>
            <a:ext cx="27054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Diagram 5"/>
          <p:cNvGrpSpPr/>
          <p:nvPr/>
        </p:nvGrpSpPr>
        <p:grpSpPr>
          <a:xfrm>
            <a:off x="3015000" y="902880"/>
            <a:ext cx="4663800" cy="4065840"/>
            <a:chOff x="3015000" y="902880"/>
            <a:chExt cx="4663800" cy="4065840"/>
          </a:xfrm>
        </p:grpSpPr>
        <p:sp>
          <p:nvSpPr>
            <p:cNvPr id="120" name="_s1028"/>
            <p:cNvSpPr/>
            <p:nvPr/>
          </p:nvSpPr>
          <p:spPr>
            <a:xfrm>
              <a:off x="3015000" y="2042280"/>
              <a:ext cx="2895120" cy="292644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1029"/>
            <p:cNvSpPr/>
            <p:nvPr/>
          </p:nvSpPr>
          <p:spPr>
            <a:xfrm>
              <a:off x="6907680" y="2204280"/>
              <a:ext cx="771120" cy="650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ll Children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_s1030"/>
            <p:cNvSpPr/>
            <p:nvPr/>
          </p:nvSpPr>
          <p:spPr>
            <a:xfrm>
              <a:off x="3496680" y="2529360"/>
              <a:ext cx="1929960" cy="195084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1031"/>
            <p:cNvSpPr/>
            <p:nvPr/>
          </p:nvSpPr>
          <p:spPr>
            <a:xfrm>
              <a:off x="6907680" y="1553400"/>
              <a:ext cx="771120" cy="650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504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_s1032"/>
            <p:cNvSpPr/>
            <p:nvPr/>
          </p:nvSpPr>
          <p:spPr>
            <a:xfrm>
              <a:off x="3980160" y="3017880"/>
              <a:ext cx="964800" cy="975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6907680" y="902880"/>
              <a:ext cx="771120" cy="650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Diagram 8"/>
          <p:cNvGrpSpPr/>
          <p:nvPr/>
        </p:nvGrpSpPr>
        <p:grpSpPr>
          <a:xfrm>
            <a:off x="351000" y="2431080"/>
            <a:ext cx="8439120" cy="1919160"/>
            <a:chOff x="351000" y="2431080"/>
            <a:chExt cx="8439120" cy="1919160"/>
          </a:xfrm>
        </p:grpSpPr>
        <p:sp>
          <p:nvSpPr>
            <p:cNvPr id="127" name="_s2052"/>
            <p:cNvSpPr/>
            <p:nvPr/>
          </p:nvSpPr>
          <p:spPr>
            <a:xfrm>
              <a:off x="4317120" y="2431080"/>
              <a:ext cx="2130120" cy="1919160"/>
            </a:xfrm>
            <a:prstGeom prst="ellipse">
              <a:avLst/>
            </a:prstGeom>
            <a:solidFill>
              <a:srgbClr val="1c1c1c">
                <a:alpha val="50000"/>
              </a:srgbClr>
            </a:solidFill>
            <a:ln w="572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53"/>
            <p:cNvSpPr/>
            <p:nvPr/>
          </p:nvSpPr>
          <p:spPr>
            <a:xfrm>
              <a:off x="6660360" y="3151080"/>
              <a:ext cx="21297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Section 504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_s2054"/>
            <p:cNvSpPr/>
            <p:nvPr/>
          </p:nvSpPr>
          <p:spPr>
            <a:xfrm>
              <a:off x="2694240" y="2431080"/>
              <a:ext cx="2129760" cy="19191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_s2055"/>
            <p:cNvSpPr/>
            <p:nvPr/>
          </p:nvSpPr>
          <p:spPr>
            <a:xfrm>
              <a:off x="351000" y="3151080"/>
              <a:ext cx="21301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luding Samuel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for Reflection as you view the vide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Samuel’s teacher in an inclusive classroom, what concerns would you ha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Students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wi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is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ademic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roved standardized test scores, reading performance, mastery of IEP goals, grades, on-task behavior, motivation, and att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ial Performanc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with typically developing peers --- some characterize their experience by fear, frustration, ridicule and isolation while others speak about friendships, intellectual challenges, self-esteem, and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Other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s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 ---- equal or better performance than those not educated in inclusion classroo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du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yram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5" descr="learning_pyramid.jpg"/>
          <p:cNvPicPr/>
          <p:nvPr/>
        </p:nvPicPr>
        <p:blipFill>
          <a:blip r:embed="rId1"/>
          <a:srcRect l="0" t="10449" r="0" b="0"/>
          <a:stretch/>
        </p:blipFill>
        <p:spPr>
          <a:xfrm>
            <a:off x="1066680" y="1674720"/>
            <a:ext cx="74678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had a disability, would you prefer a general education or special education setting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did not have a disability, which class would you pref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next clas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 to the previous questions on the blo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be focusing 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xt clas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ee Appropriate Public Education (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FAP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what all children in the U.S. are entitled to under the Individuals with Disabilities Education Act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 does "appropriate"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's important to note that "appropriate" does not mean "best," nor does it mean "appropriate to the school district's plans for this year.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w requires that this FAPE take place in the Least Restrictive Environment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Restrictive Environment (LR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me kids, this will mean full i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ther kids, a self-contained classroom may in fact be less restrictive and more appropriate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appropriate" --- interpretations must be individualized to the needs of the child, not the needs of the school or the needs of the distr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ment to I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institution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 Intervention (EI) and Early Childhoo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cal Adv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vil Rights Movement and Resulting Lit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ocac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regated Nature of Special Schools and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roportionate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al Re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ws that Shape Special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4-142: Education for All Handicapped Children Act (197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9-457: Education for All Handicapped Children Act Amendments (198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provision for the early years (E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101-476(IDEA): Individuals with Disabilities Education Act (19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Amendments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8600" y="4267080"/>
            <a:ext cx="8381880" cy="2362320"/>
          </a:xfrm>
          <a:prstGeom prst="rect">
            <a:avLst/>
          </a:prstGeom>
          <a:solidFill>
            <a:srgbClr val="00e4a8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is organiz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A, General Pro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B, Assistance for the Education of All Children with Disabilities (school age/preschool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C, Infants and Toddlers with Di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D, National Activities to Improve the Education of Children with Disabilities (support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3968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children with disabilities are entitled to services under IDEA, only those who are "eligible" under the specified disability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38120" y="-360"/>
            <a:ext cx="4800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ntal Retardation (Intellectual Dis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tion 504 of the Rehabilitation A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 504 is less discriminatory: it prot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ersons with a disability wh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a physical or mental impairment which substantially limits one or more major life activities;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record of such an impairment; or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regarded as having such an impairment.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Major Life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ing for one's self, performing manual tasks, walking, seeing, hearing, speaking, breathing, learning, and work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ting, sleeping, standing, lifting, bending, reading, concentrating, thinking, and communicating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 bodily functions” that are major life activities, such as the functions of the immune system, normal cell growth, digestive, bowel, bladder, neurological, brain, respiratory, circulatory, endocrine, and reproductive fun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23:56Z</dcterms:created>
  <dc:creator>User</dc:creator>
  <dc:description/>
  <dc:language>en-US</dc:language>
  <cp:lastModifiedBy>wsmith</cp:lastModifiedBy>
  <dcterms:modified xsi:type="dcterms:W3CDTF">2010-12-27T21:34:40Z</dcterms:modified>
  <cp:revision>10</cp:revision>
  <dc:subject/>
  <dc:title>Slide 1</dc:title>
</cp:coreProperties>
</file>